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A24-96AA-4258-8CD6-7CB0947A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AD5-0D61-470F-9754-5EA9DADC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6DE-6BF3-440B-8B9F-C4546667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639-2E10-4D30-B608-0FE0B2F9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61C9-7B4C-400D-94F6-92EF6F17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5C9B-BCCD-400A-B712-58653E2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4730-3E5C-4D0C-A276-A61D6EF1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CCCB-8F6B-4E82-9EE3-3503EA9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117-57B0-481C-B729-271B88AA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215E-CF90-4D05-B199-0E7AB083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5FFA-346E-4CC4-87BF-055C563A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488-3415-451E-953C-3608E8E6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6EA6-EB4C-4F67-9F94-F21893A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AFCE-ACE9-4901-993B-A0E4C1B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34DA-E903-4760-9096-D691EF28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8D52-1953-4285-B52C-FD14B0DF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FCDB-EBD1-4A34-81BA-3BD75589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DC4-472B-4111-873A-9040EFB7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DB1-5988-41A4-8E0A-BEE16EDB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B5C-F864-480A-83F5-617202A8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3A0-7045-410D-9AC4-5B92AF52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810-A422-4E70-8C7F-650880D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CA8-267A-494D-9E90-1673983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04A-54D0-4DF9-B8A7-872D475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23B4-872D-45AB-B5D2-92FD5BA9CA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25D6-B4D6-4E57-93F6-4EAC5E2696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it/url?url=http://www.viveremarche.it/index.php%3Fpage%3Darticolo%26articolo_id%3D154212&amp;rct=j&amp;frm=1&amp;q=&amp;esrc=s&amp;sa=U&amp;ved=0ahUKEwjHte-0k-DKAhUEWxoKHf6hB_U4FBDBbggeMAQ&amp;sig2=bavfSu0sQb5dsWHdEnm9RQ&amp;usg=AFQjCNHxa8ZSy1e7L3f8HUHCn9v85h7hlw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9efee"/>
                </a:solidFill>
                <a:latin typeface="Garamond"/>
              </a:rPr>
              <a:t>   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 nuove sfide dei territori montani: servizi, accessibilità, sviluppo economic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TRUZI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anificazione degli indirizzi e delle localizzazioni delle istituzioni scolastiche, tenendo conto dell’intera area montana delle Marche e delle sue possibilità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RE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upero dell’Accordo di programma in conseguenza della crisi della “Antonio Merloni” in funzione di un nuovo sviluppo delle Aree Inter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stegno all’artigianato artistic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lancio dei Centri Servizi alle Imprese (modello “Meccano”) in collaborazione con l’Università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GRICOL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noscimento delle difficoltà delle Aziende Agricole Mont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stegno alle specificità legate all’allevamento ed alla valorizzazione delle loro peculiarit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RESTAZI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lancio dell’attività forestale in funzione della valorizzazione del territorio montano legata alla tutela delle acque e del dissesto idrogeologic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ovi interventi di gestione forestale legati allo sviluppo della fruizione turistica dell’ambiente mont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Risultati immagini per collegium scriptorium fontis avellana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2781360"/>
            <a:ext cx="1584360" cy="143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42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96/2016 Ventennale della “Carta di Fonte Avellan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ATEGIE DI CAMBI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erare i vecchi confini amministrativi Provinciali, ragionando come un’unica Area Vasta Montana delle March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orre le Linee per una nuova legge nazionale/regionale sulle Aree Monta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lorizzare la possibilità di acquisire risorse interne per la continuità dello svilupp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lizzare uno strumento di comunicazione continua (via web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uto Regione Marc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4 – comma 7 – “Riconosce la specificità del territorio montano e delle aree interne. Promuove politiche di intervento e di riequilibrio per assicurare un’equa distribuzione dei servizi e delle infrastrutture, occasioni di lavoro e adeguate condizioni di vita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nti nascita di Fabriano, Osimo e San Severino Marche (aree in rosso) Altri punti nascita regionali (aree in ver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6553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600200"/>
            <a:ext cx="7777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609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 Ospedali di rete, 2 Aziende Sanitarie sulla co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Ospedali nelle Aree Montane che coprono il 55% del territo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TRASPOR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Un’unica linea ferroviaria rimasta, Fabriano-Macerata-Civitano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Scarsa integrazione del trasporto su gomma a causa della organizzazione ancora ferma ai vecchi confini provincial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Linee insufficienti ed articolate su vecchie modalità che non rispondono alle lunghe percorrenze e scarsità della popolazi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La miglior difesa è l’attacc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RVIZI SOCIAL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icolazioni per Ambiti che si avvia a coincidere nelle Aree Montane con le nuove Union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cessaria una nuova modalità per la ripartizione delle risorse, che tenga conto dell’orografia dei territori e dell’allungamento della vi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4T17:22:22Z</dcterms:created>
  <dc:creator>lampel</dc:creator>
  <dc:description/>
  <dc:language>en-US</dc:language>
  <cp:lastModifiedBy>corradini.roberta</cp:lastModifiedBy>
  <dcterms:modified xsi:type="dcterms:W3CDTF">2016-03-18T12:27:24Z</dcterms:modified>
  <cp:revision>38</cp:revision>
  <dc:subject/>
  <dc:title>Diapositiva 1</dc:title>
</cp:coreProperties>
</file>